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1C5-F470-4362-9CC3-34198254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687-4A91-4CB1-BB72-57753CAC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F60-E839-4B6A-9CD1-B73819AC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2F2-7D8C-44D3-81AD-FDA05D46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0FC-D0CA-45CA-A907-1836435D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B8D-BAD7-4664-8597-709B3DE5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088-6EE6-47F8-B1C7-F440CB82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7D0-C616-4477-9480-EA8D6F87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F68-8A69-4D49-8F13-019BE1F8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A0F-832C-4BF2-9A1E-54056E51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C27-1E30-45BB-95D1-514E39D3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1C9-69D4-45C8-9FB6-13D550E4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464C-653E-4A88-880C-675B992F7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nchantedlearning.com/usa/statesbw/westvirginia.s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495288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914400"/>
            <a:ext cx="73915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0000ff"/>
                    </a:gs>
                    <a:gs pos="100000">
                      <a:srgbClr val="ff33cc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est Virgini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0000ff"/>
                  </a:gs>
                  <a:gs pos="100000">
                    <a:srgbClr val="ff33cc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pital: Charle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pulation: 1,808,3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red the Union: June 20, 18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Entered: 17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tto: Mountaineers are always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ckname: Mountain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ower: Rhododend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rd: Card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ng: West Virginia my home, the West Virginia h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ning behind name: for Elizabeth I, the Virgin Qu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esting 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tree: sugar ma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rgest city: Charle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jor Industries: mining (coal), livestock, chemical manufacturing, glass products, and tou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West Virginia: Map and State Flag"/>
          <p:cNvPicPr/>
          <p:nvPr/>
        </p:nvPicPr>
        <p:blipFill>
          <a:blip r:embed="rId1"/>
          <a:srcRect l="6256" t="0" r="6256" b="69022"/>
          <a:stretch/>
        </p:blipFill>
        <p:spPr>
          <a:xfrm>
            <a:off x="5257800" y="175248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3886200"/>
            <a:ext cx="3276720" cy="26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143000" y="5335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st Virginia is a wonderful place to visit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133720"/>
            <a:ext cx="3962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en’s Guide to U.S. Government for kids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Quick Facts: West Virgini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3/2/11, http://bensguide.gpo.gov/3-5/state/westvirgin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4495680"/>
            <a:ext cx="327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chanted Learning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est Virgini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3/2/11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nchantedlearning.com/usa/states/westvirgini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wks Nest is a  peaceful wilderness and placid lake top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rthern tip of the rugged New River Go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All images Copyright © 1997 - 2000 WriteLine. All Rights Reserved. New River"/>
          <p:cNvPicPr/>
          <p:nvPr/>
        </p:nvPicPr>
        <p:blipFill>
          <a:blip r:embed="rId1"/>
          <a:stretch/>
        </p:blipFill>
        <p:spPr>
          <a:xfrm>
            <a:off x="1676520" y="1295280"/>
            <a:ext cx="5181480" cy="3454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5029200"/>
            <a:ext cx="5715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Hawks Nest State Park, Ansted W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3/3/11, http://www.postcardsfrom.com/t1/99111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© 1998 WriteLine. Rosebay Rhododendron"/>
          <p:cNvPicPr/>
          <p:nvPr/>
        </p:nvPicPr>
        <p:blipFill>
          <a:blip r:embed="rId1"/>
          <a:stretch/>
        </p:blipFill>
        <p:spPr>
          <a:xfrm>
            <a:off x="609480" y="1523880"/>
            <a:ext cx="3353040" cy="308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© 1999 WriteLine. Cardinal"/>
          <p:cNvPicPr/>
          <p:nvPr/>
        </p:nvPicPr>
        <p:blipFill>
          <a:blip r:embed="rId2"/>
          <a:stretch/>
        </p:blipFill>
        <p:spPr>
          <a:xfrm>
            <a:off x="4724280" y="1523880"/>
            <a:ext cx="3029040" cy="312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4800" y="20574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876920"/>
            <a:ext cx="381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876920"/>
            <a:ext cx="586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West Virginia State Stamps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3/3/11, http://www.postcardsfrom.com/stamp/stamp-wv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33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ate Bird and Flow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17:25Z</dcterms:created>
  <dc:creator>install</dc:creator>
  <dc:description/>
  <dc:language>en-US</dc:language>
  <cp:lastModifiedBy>install</cp:lastModifiedBy>
  <dcterms:modified xsi:type="dcterms:W3CDTF">2011-03-16T15:55:25Z</dcterms:modified>
  <cp:revision>10</cp:revision>
  <dc:subject/>
  <dc:title>Slide 1</dc:title>
</cp:coreProperties>
</file>